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CDE3F-F694-4425-85A7-3910D0E16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5CCEA-5E2C-4145-B49D-7F562EE4C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89255-101D-4ED0-88D7-F8A82C721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32CF7-7A94-4F14-94E7-0C62D2701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FF069-AB87-4D96-893A-4FB01F7AA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6187B-D3F5-47A2-893C-E19E5EDEF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87114-8C66-4753-B3EB-C4ABBA070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8134E-8EAF-443B-92E0-B6042165C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E3AB2-DF81-4D84-AE38-7F19F3552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698F5-D3E2-4AA2-9EBA-C0914FE3E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32405-7B1D-46DA-85EC-F5D4D44E0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44BE6-67BD-4994-8E8F-4061638F4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D1858-EBE7-48AB-B897-EA175F688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1A87A-C66A-40C5-8313-17A0C69DC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41210-F97F-4D7E-851C-5BB0AB80D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FF106-10B8-4DD9-A2A2-8B3305EE9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6B79F-4BE0-488F-B037-A111D002E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F22E3-B3F0-444F-ACDB-7B956065E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74FE7-60D6-4E2E-B019-7BE00778F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2C9D4-93D8-4CE7-BF6E-F9850F173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5CEC7-3259-4CF5-8B82-A772CF32B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704C6-A098-49B1-8B46-060557296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9A16D-66CD-42D7-8B28-26DA546FB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9D01F-DA94-4387-96A9-5D46240E4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minispir"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minispir"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2A29-89E9-42C6-9DEC-0C19F464E48E}"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minispir"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minispir"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BB62-D14E-424F-AB67-A31C53B73548}"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221304"/>
              </a:solidFill>
              <a:latin typeface="Times New Roman"/>
            </a:endParaRPr>
          </a:p>
        </p:txBody>
      </p:sp>
      <p:sp>
        <p:nvSpPr>
          <p:cNvPr id="116"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rra Cichonski</a:t>
            </a:r>
            <a:endParaRPr b="0" lang="en-US" sz="3200" spc="-1" strike="noStrike">
              <a:solidFill>
                <a:srgbClr val="000000"/>
              </a:solidFill>
              <a:latin typeface="Times New Roman"/>
            </a:endParaRPr>
          </a:p>
        </p:txBody>
      </p:sp>
      <p:pic>
        <p:nvPicPr>
          <p:cNvPr id="117" name="fred-jones-photo" descr=""/>
          <p:cNvPicPr/>
          <p:nvPr/>
        </p:nvPicPr>
        <p:blipFill>
          <a:blip r:embed="rId1"/>
          <a:stretch/>
        </p:blipFill>
        <p:spPr>
          <a:xfrm>
            <a:off x="3809880" y="2971800"/>
            <a:ext cx="2006640" cy="2133720"/>
          </a:xfrm>
          <a:prstGeom prst="rect">
            <a:avLst/>
          </a:prstGeom>
          <a:ln w="0">
            <a:noFill/>
          </a:ln>
        </p:spPr>
      </p:pic>
      <p:sp>
        <p:nvSpPr>
          <p:cNvPr id="118" name=""/>
          <p:cNvSpPr txBox="1"/>
          <p:nvPr/>
        </p:nvSpPr>
        <p:spPr>
          <a:xfrm>
            <a:off x="1752480" y="228600"/>
            <a:ext cx="640080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Fredric Jones</a:t>
            </a:r>
            <a:endParaRPr b="0" lang="en-US" sz="24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amp;</a:t>
            </a:r>
            <a:endParaRPr b="0" lang="en-US" sz="24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The Positive Discipline Model</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inued..</a:t>
            </a:r>
            <a:endParaRPr b="0" lang="en-US" sz="4400" spc="-1" strike="noStrike">
              <a:solidFill>
                <a:srgbClr val="221304"/>
              </a:solidFill>
              <a:latin typeface="Times New Roman"/>
            </a:endParaRPr>
          </a:p>
        </p:txBody>
      </p:sp>
      <p:sp>
        <p:nvSpPr>
          <p:cNvPr id="142" name="PlaceHolder 2"/>
          <p:cNvSpPr>
            <a:spLocks noGrp="1"/>
          </p:cNvSpPr>
          <p:nvPr>
            <p:ph/>
          </p:nvPr>
        </p:nvSpPr>
        <p:spPr>
          <a:xfrm>
            <a:off x="1066680" y="13716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1. Eyes in the Back of Your Head. A teacher needs to be aware of what is occurring in all areas in the classroom at 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Terminate Instruction. Excuse yourself from what you are doing, whether it is with the entire class or with one other stud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urn, Look, and Say the Student’s N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Walk to the Edge of the Student’s Des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Prompt. The teacher uses his or her hands to signal a prompt to an action that he or she wa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Palms. The teacher places his or her palms flat on the far sides of the desk maintaining eye contact with the student and is within one foot of the student’s 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Camping out. The teacher lifts one palm off the desk and places an elbow on the desk to lean in further.”</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 setting,"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sponsibility Training</a:t>
            </a:r>
            <a:endParaRPr b="0" lang="en-US" sz="4400" spc="-1" strike="noStrike">
              <a:solidFill>
                <a:srgbClr val="221304"/>
              </a:solidFill>
              <a:latin typeface="Times New Roman"/>
            </a:endParaRPr>
          </a:p>
        </p:txBody>
      </p:sp>
      <p:sp>
        <p:nvSpPr>
          <p:cNvPr id="14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way that teachers get their students to learn cooperation in the classroom.</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y cooperate they can earn PAT points, PAT = Preferred Activity Tim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is not recess or free time, it is time to play an educational game.</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as Yahtz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mission Training </a:t>
            </a:r>
            <a:endParaRPr b="0" lang="en-US" sz="4400" spc="-1" strike="noStrike">
              <a:solidFill>
                <a:srgbClr val="221304"/>
              </a:solidFill>
              <a:latin typeface="Times New Roman"/>
            </a:endParaRPr>
          </a:p>
        </p:txBody>
      </p:sp>
      <p:sp>
        <p:nvSpPr>
          <p:cNvPr id="14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PAT works for most students, it does not work for every student.  This is when Jones’ Omission Training is introduced.</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defiant students are taken out of PAT and put into an Individualized Incentive Program.  This is to help remove the unwanted behavior problems from the classro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Central Concept of Omission Training</a:t>
            </a:r>
            <a:endParaRPr b="0" lang="en-US" sz="4400" spc="-1" strike="noStrike">
              <a:solidFill>
                <a:srgbClr val="221304"/>
              </a:solidFill>
              <a:latin typeface="Times New Roman"/>
            </a:endParaRPr>
          </a:p>
        </p:txBody>
      </p:sp>
      <p:sp>
        <p:nvSpPr>
          <p:cNvPr id="14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1. Remove the student from responsibility training so the misbehavior does not continue to hurt peers.</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ermit the student to earn bonus points for the class.</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hallenge the class to help with the success of this difficult student.</a:t>
            </a:r>
            <a:endParaRPr b="0" lang="en-US" sz="28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Gradually phase out the omission training proces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discipline ," 200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Back-up System</a:t>
            </a:r>
            <a:endParaRPr b="0" lang="en-US" sz="4400" spc="-1" strike="noStrike">
              <a:solidFill>
                <a:srgbClr val="221304"/>
              </a:solidFill>
              <a:latin typeface="Times New Roman"/>
            </a:endParaRPr>
          </a:p>
        </p:txBody>
      </p:sp>
      <p:sp>
        <p:nvSpPr>
          <p:cNvPr id="15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ck-up System is the last component of Jones’ model.  This can be used in place of Omission Traini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 three different levels to the Back-up System.</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Back-up Respons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 Back-up Respons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Back-up Respon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mall Back-up Responses</a:t>
            </a:r>
            <a:endParaRPr b="0" lang="en-US" sz="4400" spc="-1" strike="noStrike">
              <a:solidFill>
                <a:srgbClr val="221304"/>
              </a:solidFill>
              <a:latin typeface="Times New Roman"/>
            </a:endParaRPr>
          </a:p>
        </p:txBody>
      </p:sp>
      <p:sp>
        <p:nvSpPr>
          <p:cNvPr id="152"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evel 1: Small Backup Responses</a:t>
            </a:r>
            <a:endParaRPr b="0"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et and private confrontation</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 warning</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te meeting</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et time”</a:t>
            </a:r>
            <a:endParaRPr b="0"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discipline ," 2008)</a:t>
            </a:r>
            <a:endParaRPr b="0" lang="en-US" sz="2000" spc="-1" strike="noStrike">
              <a:solidFill>
                <a:srgbClr val="000000"/>
              </a:solidFill>
              <a:latin typeface="Times New Roman"/>
            </a:endParaRPr>
          </a:p>
        </p:txBody>
      </p:sp>
      <p:pic>
        <p:nvPicPr>
          <p:cNvPr id="153" name="images" descr=""/>
          <p:cNvPicPr/>
          <p:nvPr/>
        </p:nvPicPr>
        <p:blipFill>
          <a:blip r:embed="rId1"/>
          <a:stretch/>
        </p:blipFill>
        <p:spPr>
          <a:xfrm>
            <a:off x="5029200" y="2389320"/>
            <a:ext cx="3809880" cy="287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dium Back-up Responses </a:t>
            </a:r>
            <a:endParaRPr b="0" lang="en-US" sz="4400" spc="-1" strike="noStrike">
              <a:solidFill>
                <a:srgbClr val="221304"/>
              </a:solidFill>
              <a:latin typeface="Times New Roman"/>
            </a:endParaRPr>
          </a:p>
        </p:txBody>
      </p:sp>
      <p:sp>
        <p:nvSpPr>
          <p:cNvPr id="155"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evel 2: Medium Backup Responses</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out</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warning and threats</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ing sent to the hall</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ntion after school</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privilege</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ent conference</a:t>
            </a:r>
            <a:endParaRPr b="0" lang="en-US" sz="1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ering student's grade/assigning extra work</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 discipline ," 2008)</a:t>
            </a:r>
            <a:endParaRPr b="0" lang="en-US" sz="1800" spc="-1" strike="noStrike">
              <a:solidFill>
                <a:srgbClr val="000000"/>
              </a:solidFill>
              <a:latin typeface="Times New Roman"/>
            </a:endParaRPr>
          </a:p>
        </p:txBody>
      </p:sp>
      <p:pic>
        <p:nvPicPr>
          <p:cNvPr id="156" name="cyc-discipline2" descr=""/>
          <p:cNvPicPr/>
          <p:nvPr/>
        </p:nvPicPr>
        <p:blipFill>
          <a:blip r:embed="rId1"/>
          <a:stretch/>
        </p:blipFill>
        <p:spPr>
          <a:xfrm>
            <a:off x="5029200" y="2038320"/>
            <a:ext cx="3809880" cy="358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arge Back-up Responses</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evel 3: Large Backup Responses</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ing student to the office</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referral system</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l punishment</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 discipline ," 2008)</a:t>
            </a:r>
            <a:endParaRPr b="0" lang="en-US" sz="1800" spc="-1" strike="noStrike">
              <a:solidFill>
                <a:srgbClr val="000000"/>
              </a:solidFill>
              <a:latin typeface="Times New Roman"/>
            </a:endParaRPr>
          </a:p>
        </p:txBody>
      </p:sp>
      <p:pic>
        <p:nvPicPr>
          <p:cNvPr id="159" name="baby-in-jail" descr=""/>
          <p:cNvPicPr/>
          <p:nvPr/>
        </p:nvPicPr>
        <p:blipFill>
          <a:blip r:embed="rId1"/>
          <a:stretch/>
        </p:blipFill>
        <p:spPr>
          <a:xfrm>
            <a:off x="5029200" y="2438280"/>
            <a:ext cx="3809880" cy="27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rengths</a:t>
            </a:r>
            <a:endParaRPr b="0" lang="en-US" sz="4400" spc="-1" strike="noStrike">
              <a:solidFill>
                <a:srgbClr val="221304"/>
              </a:solidFill>
              <a:latin typeface="Times New Roman"/>
            </a:endParaRPr>
          </a:p>
        </p:txBody>
      </p:sp>
      <p:sp>
        <p:nvSpPr>
          <p:cNvPr id="16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gives steps for teachers to follo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lets teachers know how far to go when applying the techniqu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s the roll of the teacher and administr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approach that allows teacher to avoid frustration.</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rpaci, E.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eaknesses </a:t>
            </a:r>
            <a:endParaRPr b="0" lang="en-US" sz="4400" spc="-1" strike="noStrike">
              <a:solidFill>
                <a:srgbClr val="221304"/>
              </a:solidFill>
              <a:latin typeface="Times New Roman"/>
            </a:endParaRPr>
          </a:p>
        </p:txBody>
      </p:sp>
      <p:sp>
        <p:nvSpPr>
          <p:cNvPr id="16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tempt to understand the underlining causes of miscondu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model allows teachers to be controll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s helpful positive approach.</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rpaci, E.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Quote</a:t>
            </a:r>
            <a:endParaRPr b="0" lang="en-US" sz="4400" spc="-1" strike="noStrike">
              <a:solidFill>
                <a:srgbClr val="221304"/>
              </a:solidFill>
              <a:latin typeface="Times New Roman"/>
            </a:endParaRPr>
          </a:p>
        </p:txBody>
      </p:sp>
      <p:sp>
        <p:nvSpPr>
          <p:cNvPr id="1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here is no ‘best method’ of dealing with discipline in the classroom; rather there are many different methods for different children in different circumstances.”</a:t>
            </a:r>
            <a:endParaRPr b="0" lang="en-US" sz="36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2057400" indent="-22860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d J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Relevant?</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odel has some really great suggestions to help with the disruptive stud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for me I would not use every single aspect of this model on my stud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really enjoyed the PAT system, I would love to try to have my future students become actively involved in i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as not a huge fan of Jones’ last step of the model, the Back-up Respon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some of them were helpful, I feel that some of them may cause the behavior of the student to increase.  If you lower a students grade or give them extra work due to bad behavior,  this may cause them to give up and act out even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itations</a:t>
            </a:r>
            <a:endParaRPr b="0" lang="en-US" sz="44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3000"/>
          </a:bodyPr>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 discipline . (2008, March 29). Retrieved from http://wik.ed.uiuc.edu/index.php/Positive_Discipline</a:t>
            </a:r>
            <a:endParaRPr b="0" lang="en-US" sz="18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sitive discipline model. (n.d.). Retrieved from http://faculty.msmc.edu/frm6763/pdf/positive_discipline.pdf </a:t>
            </a:r>
            <a:endParaRPr b="0" lang="en-US" sz="1800" spc="-1" strike="noStrike">
              <a:solidFill>
                <a:srgbClr val="000000"/>
              </a:solidFill>
              <a:latin typeface="Times New Roman"/>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d jones tools for teaching . (2000, October 1). Retrieved from http://www.amazon.com/Fred-Jones-Tools-Teaching-Fredric/dp/0965026302</a:t>
            </a:r>
            <a:endParaRPr b="0" lang="en-US" sz="1800" spc="-1" strike="noStrike">
              <a:solidFill>
                <a:srgbClr val="000000"/>
              </a:solidFill>
              <a:latin typeface="Times New Roman"/>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mit setting. (2009, May 11). Retrieved from http://wik.ed.uiuc.edu/index.php/Limit_set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rpaci, E. (2007).  A Case Study Approach to Classroom Management.  Boston, MA; Pearson Education, INC.</a:t>
            </a:r>
            <a:endParaRPr b="0" lang="en-US" sz="1800" spc="-1" strike="noStrike">
              <a:solidFill>
                <a:srgbClr val="000000"/>
              </a:solidFill>
              <a:latin typeface="Times New Roman"/>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itations</a:t>
            </a:r>
            <a:endParaRPr b="0" lang="en-US" sz="4400" spc="-1" strike="noStrike">
              <a:solidFill>
                <a:srgbClr val="221304"/>
              </a:solidFill>
              <a:latin typeface="Times New Roman"/>
            </a:endParaRPr>
          </a:p>
        </p:txBody>
      </p:sp>
      <p:sp>
        <p:nvSpPr>
          <p:cNvPr id="169"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tive classroom discipline. (n.d.). Retrieved from https://docs.google.com/viewer?a=v&amp;q=cache:lkb_Uw36fD8J:https://www.msu.edu/user/lasterjo/fredjones.ppt%3Fiframe%3Dtrue%26width%3D100%25%26height%3D100%25 &amp;hl=en&amp;gl=us&amp;pid=bl&amp;srcid=ADGEESgVa1SRtdlabJNMjO0oRZd0B5L9b34GnAR__tnkr_kd1NoBNl3fIGgdsqFCN5jBEgO9shXBdIxrjhw9oqTzTjFwXCbyt12YD_JDM9l2tAz7uJJvLBkUes4LK89-K50QGkdLaSop&amp;sig=AHIEtbQSOL2PofvqJq5D1M-gLOtpNzVGq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bout Fredric H. Jon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nical Psychologist at UCL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his extensive research, Jones developed the Positive Classroom Managemen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research in 1987 found out that teachers need to utilize physical presence in the classroom.  This is to ensure students remain on task and do not disturb the learning process. </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fo continued..</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Jones, the classroom management procedures must be kept positiv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ipline procedures must be practical, simple, and easy for students.</a:t>
            </a:r>
            <a:endParaRPr b="0" lang="en-US" sz="2800" spc="-1" strike="noStrike">
              <a:solidFill>
                <a:srgbClr val="000000"/>
              </a:solidFill>
              <a:latin typeface="Times New Roman"/>
            </a:endParaRPr>
          </a:p>
        </p:txBody>
      </p:sp>
      <p:sp>
        <p:nvSpPr>
          <p:cNvPr id="125" name="PlaceHolder 3"/>
          <p:cNvSpPr>
            <a:spLocks noGrp="1"/>
          </p:cNvSpPr>
          <p:nvPr>
            <p:ph/>
          </p:nvPr>
        </p:nvSpPr>
        <p:spPr>
          <a:xfrm>
            <a:off x="5028840" y="177156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dric was the first in his field to put emphasis on nonverbal communication in the classro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ooks</a:t>
            </a:r>
            <a:endParaRPr b="0" lang="en-US" sz="4400" spc="-1" strike="noStrike">
              <a:solidFill>
                <a:srgbClr val="221304"/>
              </a:solidFill>
              <a:latin typeface="Times New Roman"/>
            </a:endParaRPr>
          </a:p>
        </p:txBody>
      </p:sp>
      <p:sp>
        <p:nvSpPr>
          <p:cNvPr id="127"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sitive Classroom Discipline</a:t>
            </a:r>
            <a:r>
              <a:rPr b="0" lang="en-US" sz="4000" spc="-1" strike="noStrike">
                <a:solidFill>
                  <a:srgbClr val="000000"/>
                </a:solidFill>
                <a:latin typeface="Times New Roman"/>
              </a:rPr>
              <a:t> (1987)</a:t>
            </a:r>
            <a:endParaRPr b="0" lang="en-US" sz="4000" spc="-1" strike="noStrike">
              <a:solidFill>
                <a:srgbClr val="000000"/>
              </a:solidFill>
              <a:latin typeface="Times New Roman"/>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28" name="41BST96YCYL._SL500_AA300_" descr=""/>
          <p:cNvPicPr/>
          <p:nvPr/>
        </p:nvPicPr>
        <p:blipFill>
          <a:blip r:embed="rId1"/>
          <a:stretch/>
        </p:blipFill>
        <p:spPr>
          <a:xfrm>
            <a:off x="4800600" y="19051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ooks continued.. </a:t>
            </a:r>
            <a:endParaRPr b="0" lang="en-US" sz="4400" spc="-1" strike="noStrike">
              <a:solidFill>
                <a:srgbClr val="221304"/>
              </a:solidFill>
              <a:latin typeface="Times New Roman"/>
            </a:endParaRPr>
          </a:p>
        </p:txBody>
      </p:sp>
      <p:sp>
        <p:nvSpPr>
          <p:cNvPr id="130"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a:bodyPr>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ols for Teaching</a:t>
            </a:r>
            <a:r>
              <a:rPr b="0" lang="en-US" sz="3600" spc="-1" strike="noStrike">
                <a:solidFill>
                  <a:srgbClr val="000000"/>
                </a:solidFill>
                <a:latin typeface="Times New Roman"/>
              </a:rPr>
              <a:t> (2000)</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41Z6KAP3ECL._SL500_AA300_" descr=""/>
          <p:cNvPicPr/>
          <p:nvPr/>
        </p:nvPicPr>
        <p:blipFill>
          <a:blip r:embed="rId1"/>
          <a:stretch/>
        </p:blipFill>
        <p:spPr>
          <a:xfrm>
            <a:off x="5029200" y="19242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ooks Continued..</a:t>
            </a:r>
            <a:endParaRPr b="0" lang="en-US" sz="4400" spc="-1" strike="noStrike">
              <a:solidFill>
                <a:srgbClr val="221304"/>
              </a:solidFill>
              <a:latin typeface="Times New Roman"/>
            </a:endParaRPr>
          </a:p>
        </p:txBody>
      </p:sp>
      <p:sp>
        <p:nvSpPr>
          <p:cNvPr id="133"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d Jones Tools for Teaching: Discipline, Instruction, Motivation </a:t>
            </a:r>
            <a:r>
              <a:rPr b="0" lang="en-US" sz="2800" spc="-1" strike="noStrike">
                <a:solidFill>
                  <a:srgbClr val="000000"/>
                </a:solidFill>
                <a:latin typeface="Times New Roman"/>
              </a:rPr>
              <a:t>(2007)</a:t>
            </a:r>
            <a:endParaRPr b="0" lang="en-US" sz="2800" spc="-1" strike="noStrike">
              <a:solidFill>
                <a:srgbClr val="000000"/>
              </a:solidFill>
              <a:latin typeface="Times New Roman"/>
            </a:endParaRPr>
          </a:p>
        </p:txBody>
      </p:sp>
      <p:pic>
        <p:nvPicPr>
          <p:cNvPr id="134" name="51UckXTqXCL._BO2,204,203,200_PIsitb-sticker-arrow-click,TopRight,35,-76_AA300_SH20_OU01_" descr=""/>
          <p:cNvPicPr/>
          <p:nvPr/>
        </p:nvPicPr>
        <p:blipFill>
          <a:blip r:embed="rId1"/>
          <a:stretch/>
        </p:blipFill>
        <p:spPr>
          <a:xfrm>
            <a:off x="5029200" y="19242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Limit Setting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Responsibility Training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t>
            </a:r>
            <a:r>
              <a:rPr b="0" lang="en-US" sz="3200" spc="-1" strike="noStrike">
                <a:solidFill>
                  <a:srgbClr val="000000"/>
                </a:solidFill>
                <a:latin typeface="Times New Roman"/>
              </a:rPr>
              <a:t>	</a:t>
            </a:r>
            <a:r>
              <a:rPr b="0" lang="en-US" sz="3200" spc="-1" strike="noStrike">
                <a:solidFill>
                  <a:srgbClr val="000000"/>
                </a:solidFill>
                <a:latin typeface="Times New Roman"/>
              </a:rPr>
              <a:t>Omission Trainin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Back-up System</a:t>
            </a:r>
            <a:endParaRPr b="0" lang="en-US" sz="3200" spc="-1" strike="noStrike">
              <a:solidFill>
                <a:srgbClr val="000000"/>
              </a:solidFill>
              <a:latin typeface="Times New Roman"/>
            </a:endParaRPr>
          </a:p>
        </p:txBody>
      </p:sp>
      <p:sp>
        <p:nvSpPr>
          <p:cNvPr id="137" name=""/>
          <p:cNvSpPr txBox="1"/>
          <p:nvPr/>
        </p:nvSpPr>
        <p:spPr>
          <a:xfrm>
            <a:off x="1143000" y="990720"/>
            <a:ext cx="711504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rPr>
              <a:t>The Positive </a:t>
            </a:r>
            <a:endPar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rPr>
              <a:t>Discipline</a:t>
            </a:r>
            <a:endPar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rPr>
              <a:t> </a:t>
            </a:r>
            <a:r>
              <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rPr>
              <a:t>Model Process</a:t>
            </a:r>
            <a:endParaRPr b="0" lang="en-US" sz="2400" spc="1" strike="noStrike">
              <a:ln w="12600">
                <a:solidFill>
                  <a:srgbClr val="000000"/>
                </a:solidFill>
                <a:miter/>
              </a:ln>
              <a:gradFill rotWithShape="0">
                <a:gsLst>
                  <a:gs pos="0">
                    <a:srgbClr val="9191e1"/>
                  </a:gs>
                  <a:gs pos="50000">
                    <a:srgbClr val="9933ff"/>
                  </a:gs>
                  <a:gs pos="100000">
                    <a:srgbClr val="9191e1"/>
                  </a:gs>
                </a:gsLst>
                <a:lin ang="135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mit Setting</a:t>
            </a:r>
            <a:endParaRPr b="0" lang="en-US" sz="4400" spc="-1" strike="noStrike">
              <a:solidFill>
                <a:srgbClr val="221304"/>
              </a:solidFill>
              <a:latin typeface="Times New Roman"/>
            </a:endParaRPr>
          </a:p>
        </p:txBody>
      </p:sp>
      <p:sp>
        <p:nvSpPr>
          <p:cNvPr id="139" name="PlaceHolder 2"/>
          <p:cNvSpPr>
            <a:spLocks noGrp="1"/>
          </p:cNvSpPr>
          <p:nvPr>
            <p:ph/>
          </p:nvPr>
        </p:nvSpPr>
        <p:spPr>
          <a:xfrm>
            <a:off x="1066680" y="1771560"/>
            <a:ext cx="38102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setting is the way teachers use their body langu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best used when a teacher is up in front of the class lecturing and the students are seated at their desks.</a:t>
            </a:r>
            <a:endParaRPr b="0" lang="en-US" sz="2800" spc="-1" strike="noStrike">
              <a:solidFill>
                <a:srgbClr val="000000"/>
              </a:solidFill>
              <a:latin typeface="Times New Roman"/>
            </a:endParaRPr>
          </a:p>
        </p:txBody>
      </p:sp>
      <p:sp>
        <p:nvSpPr>
          <p:cNvPr id="140" name="PlaceHolder 3"/>
          <p:cNvSpPr>
            <a:spLocks noGrp="1"/>
          </p:cNvSpPr>
          <p:nvPr>
            <p:ph/>
          </p:nvPr>
        </p:nvSpPr>
        <p:spPr>
          <a:xfrm>
            <a:off x="5028840" y="1771560"/>
            <a:ext cx="380988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Jones' research found the following:</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ut 50% of classroom time is lost due to student misbehavior and being off task. 80% of lost time is due to talking without permission. 19% is lost to daydreaming, out of seat, making noises, etc. 1% is lost to more serious misbehavior. Jones also discovered that some teachers seem to naturally control their students and deal with misbehaviors quickly and efficiently while others lose lots of instructional time by yelling or nagging or being sarcastic to try to get students to behave. (Romano)”</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mit setting," 2009)</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2T03:51:12Z</dcterms:created>
  <dc:creator>SC</dc:creator>
  <dc:description/>
  <dc:language>en-US</dc:language>
  <cp:lastModifiedBy>SC</cp:lastModifiedBy>
  <dcterms:modified xsi:type="dcterms:W3CDTF">2012-06-12T21:46:11Z</dcterms:modified>
  <cp:revision>6</cp:revision>
  <dc:subject/>
  <dc:title>Fredric Jones &amp; The Positive Discipline Model  </dc:title>
</cp:coreProperties>
</file>